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342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364A-EF11-43B9-9E5D-52CF126D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66F7-5EDF-438B-8BD5-C5E1E1FC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0E8F-783B-4ED8-B827-619B3FC3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420-72D9-4970-BFF2-21049E66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9D8C-AD67-4771-AF8E-296AAA9F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0E7B-6D8F-4F2C-8086-3F4CDB69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3F83-78BF-4A20-BFDF-D3654EDF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811E-BACA-4CAE-BC51-8DD79553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F3B8-5531-478B-BE11-B0582C9C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85D1-7516-4FFB-BE97-F8468F1B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36B6-F527-42D9-B3C5-1E268102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0F39-40BB-4D6B-AFDF-C5E8B6C0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3DE2-430D-491C-AF8D-9E8DC74D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DE9F-5736-4C06-9373-B27CF45E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FE97-DD35-409E-8F40-1346F8E3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37E8-8CFB-4299-B64A-6815886E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3280-F420-443A-B4AC-55C846E9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4BA7-BA12-47BB-8C71-3F0A9E22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CB64-AC50-43BB-B9AC-190553E8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9622-CB19-4B36-A6F8-ACD9A29D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399F-E679-46CD-9EC6-3D35DBAF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F58D-B0B0-49FB-B298-882B4B14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4F73-A32E-4F8D-A0CA-22CAF771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7AA-954D-4B43-A26C-29CDAE53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A88F-B29A-4CFA-BA3F-4F52AAED1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0" descr=""/>
          <p:cNvPicPr/>
          <p:nvPr/>
        </p:nvPicPr>
        <p:blipFill>
          <a:blip r:embed="rId2"/>
          <a:srcRect l="0" t="0" r="63470" b="0"/>
          <a:stretch/>
        </p:blipFill>
        <p:spPr>
          <a:xfrm>
            <a:off x="227160" y="228600"/>
            <a:ext cx="242244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152280" y="1752480"/>
            <a:ext cx="899172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17524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1905120"/>
            <a:ext cx="152280" cy="49528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2" descr=""/>
          <p:cNvPicPr/>
          <p:nvPr/>
        </p:nvPicPr>
        <p:blipFill>
          <a:blip r:embed="rId2"/>
          <a:srcRect l="0" t="0" r="63466" b="0"/>
          <a:stretch/>
        </p:blipFill>
        <p:spPr>
          <a:xfrm>
            <a:off x="455760" y="455760"/>
            <a:ext cx="3004920" cy="849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FF98-825C-4899-8147-063A9D94B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362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&amp;E Plan for Africa RIS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F Indic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371600" y="41148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Expert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6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s Ab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F AR Quick Win Indic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2209680"/>
          <a:ext cx="7772400" cy="403884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673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farmers and others who have applied new technologies or management practice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3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ndividuals who received long-term agricultural sector productivity or food security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3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ndividuals who received short-term agricultural sector productivity or food security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2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“organizations” receivin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3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members of producer organizations and community based organizations receivin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3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“organizations” that applied new technologies or management practice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F AR Quick Win Indic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2133720"/>
          <a:ext cx="7772400" cy="419076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1523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new technologies or management practices in one of the following phases of developme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 resear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 field 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 available for trans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86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s of Policies/Regulations/Administrative Procedures in each of the following stages of development…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z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ed and presented for public/stakeholder consul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ed for legislation/dec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d/ap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d for which implementation has beg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ublic-private partnerships formed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FTF Indicators for Africa RIS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2438280"/>
          <a:ext cx="7772400" cy="373392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72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34308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rural households benefiting directly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3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34308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vulnerable households benefiting directly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2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34308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hectares under improved technologies or management practice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34308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takeholders implementing risk-reducing practices/actions to improve resilience to climate change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FTF Indicators for Africa RIS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2209680"/>
          <a:ext cx="7772400" cy="365760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34308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 of incremental sales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34308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 margin per unit of land, kilogram, or animal of selected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34308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 of new private sector investment in the agriculture sector or food chain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34308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rmer satisfaction with quantity, quality and timeliness of extension and input supply service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0" name="TextBox 5"/>
          <p:cNvSpPr/>
          <p:nvPr/>
        </p:nvSpPr>
        <p:spPr>
          <a:xfrm>
            <a:off x="685800" y="58672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Custom indi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20:07:42Z</dcterms:created>
  <dc:creator>Design Studio</dc:creator>
  <dc:description/>
  <dc:language>en-US</dc:language>
  <cp:lastModifiedBy>Gary Ender</cp:lastModifiedBy>
  <cp:lastPrinted>2004-09-30T16:41:33Z</cp:lastPrinted>
  <dcterms:modified xsi:type="dcterms:W3CDTF">2012-09-04T09:06:33Z</dcterms:modified>
  <cp:revision>151</cp:revision>
  <dc:subject/>
  <dc:title>PowerPoint Presentation</dc:title>
</cp:coreProperties>
</file>